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B4F-8D6E-4BD2-844C-8D687BFB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BF3-B372-4D6F-B1D5-314ADC3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E47-5433-43D1-BDAC-3DB85805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87E-1CD8-476B-B8B3-9677492C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4F1-BA9D-4C4F-B32E-B2A26EBD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2F8-0488-45C4-8031-B7CB21E7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139-92E0-415B-86AA-097C884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0C-EFC1-475A-9B0D-4AA0725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AF3-2F05-4B5C-A967-BB3D8E42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CC5-57F5-442F-9354-195F910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4CF-1E2A-4493-9FD8-EB97BBA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CD9-7456-4847-8534-B0C0312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6B8F-2750-4808-8764-07751775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rs use line breaks to show a pause when reading a po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s use line brea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lines in a particular place so the reader will paus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certai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pace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develop the rhythm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low the poem down or creat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ook at this po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3720" y="1981080"/>
            <a:ext cx="2233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Is a leaping f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o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go ne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ut it will st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ie 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In warm yellow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On the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ike a f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Quilt, 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cat can c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nd pur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 how it might sound if the line breaks were in different p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5105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y Valerie 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e sun Is a leaping f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o hot To go ne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ut it will still Lie down In warm yellow squares On the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ike a flat Quilt, where The cat can curl And pur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er has to think very carefully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he or she might wa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ce emph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 down the p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nge the 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, practice placing the line breaks in your poem in a different plac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ce how it changes your po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2:19:30Z</dcterms:created>
  <dc:creator>AAPS</dc:creator>
  <dc:description/>
  <dc:language>en-US</dc:language>
  <cp:lastModifiedBy>AAPS</cp:lastModifiedBy>
  <dcterms:modified xsi:type="dcterms:W3CDTF">2006-03-09T03:35:02Z</dcterms:modified>
  <cp:revision>6</cp:revision>
  <dc:subject/>
  <dc:title>Line Breaks</dc:title>
</cp:coreProperties>
</file>